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1.png" ContentType="image/png"/>
  <Override PartName="/ppt/media/image29.wmf" ContentType="image/x-wmf"/>
  <Override PartName="/ppt/media/image3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5.png" ContentType="image/png"/>
  <Override PartName="/ppt/media/image6.wmf" ContentType="image/x-wmf"/>
  <Override PartName="/ppt/media/image28.jpeg" ContentType="image/jpeg"/>
  <Override PartName="/ppt/media/image35.wmf" ContentType="image/x-wmf"/>
  <Override PartName="/ppt/media/image37.wmf" ContentType="image/x-wmf"/>
  <Override PartName="/ppt/media/image46.jpeg" ContentType="image/jpeg"/>
  <Override PartName="/ppt/media/image41.wmf" ContentType="image/x-wmf"/>
  <Override PartName="/ppt/media/image43.png" ContentType="image/png"/>
  <Override PartName="/ppt/media/image53.jpeg" ContentType="image/jpeg"/>
  <Override PartName="/ppt/media/image45.png" ContentType="image/png"/>
  <Override PartName="/ppt/media/image30.wmf" ContentType="image/x-wmf"/>
  <Override PartName="/ppt/media/image42.jpeg" ContentType="image/jpeg"/>
  <Override PartName="/ppt/media/image39.wmf" ContentType="image/x-wmf"/>
  <Override PartName="/ppt/media/image9.wmf" ContentType="image/x-wmf"/>
  <Override PartName="/ppt/media/image51.wmf" ContentType="image/x-wmf"/>
  <Override PartName="/ppt/media/image40.wmf" ContentType="image/x-wmf"/>
  <Override PartName="/ppt/media/image34.jpeg" ContentType="image/jpeg"/>
  <Override PartName="/ppt/media/image48.jpeg" ContentType="image/jpeg"/>
  <Override PartName="/ppt/media/image50.wmf" ContentType="image/x-wmf"/>
  <Override PartName="/ppt/media/image54.jpeg" ContentType="image/jpeg"/>
  <Override PartName="/ppt/media/image52.jpeg" ContentType="image/jpeg"/>
  <Override PartName="/ppt/media/image33.wmf" ContentType="image/x-wmf"/>
  <Override PartName="/ppt/media/image44.png" ContentType="image/png"/>
  <Override PartName="/ppt/media/image13.jpeg" ContentType="image/jpeg"/>
  <Override PartName="/ppt/media/image12.wmf" ContentType="image/x-wmf"/>
  <Override PartName="/ppt/media/image11.jpeg" ContentType="image/jpeg"/>
  <Override PartName="/ppt/media/image47.wmf" ContentType="image/x-wmf"/>
  <Override PartName="/ppt/media/image10.wmf" ContentType="image/x-wmf"/>
  <Override PartName="/ppt/media/image38.wmf" ContentType="image/x-wmf"/>
  <Override PartName="/ppt/media/image8.wmf" ContentType="image/x-wmf"/>
  <Override PartName="/ppt/media/image4.jpeg" ContentType="image/jpeg"/>
  <Override PartName="/ppt/media/image7.jpeg" ContentType="image/jpe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C08A-D0B2-4227-A1C5-D0AB4C536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dd harmonics of the “fundamental frequency in a symmetric, 50% duty cycle, periodic signal.  Even harmonics sound B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“Fourier Series” where each frequency component is represented by an “Impulse Function” at that component’s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: http://doctord.webhop.net/courses/tutorials/Generalized_Fourier_Ser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64E4-519D-4E18-962F-5021F8AD1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sine wave”, Va is the “peak voltage”; T is the “Period”; f = 1/T is the frequency in Hz (cycles/second);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 is also the frequency in radians/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5F8D-CD01-488B-8704-6DDE97EDE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agnitude of the Fourier Transform.  The Fourier Transform is the limiting case of a Fourier series as you increase the waveform period to ∞.  It is analogous to a pressure whereas the Fourier series is analogous to a set of discrete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: http://doctord.webhop.net/courses/tutorials/Fourier_Transfor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E264-0E4D-43AA-A444-EF4A51D42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n Analog world (as long as we ignore Quantum Mechan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computer lives in a Digital World which has understandable differences from our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y Tutorial on Sampling at http://DoctorD.webhop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CD5C-7B82-464C-82CB-CB80771BF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3610-943E-419E-A158-D73D79AA5CC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7B52-5331-4D3E-93A9-E94FE7DA1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lso a clock input to set the “Sampling Rate” which must be faster than twice the highest frequency in the analog sign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“Nyquist Rate”) so that the D/A process can be done accurately (no “Aliasing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/Digital conversion (and reconstruction – D/A conversion) see http:/doctord.webhop.net/courses/tutorials/Sampling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opics are fully investigated in a “Signals and Systems” course (EE301 here at Fairfiel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A30D-3F46-4D07-B0E7-BA03D5B8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ampling” (A/D conversion) and “Reconstruction” (D/A) processes form the connection between the Analog world (where we live) and the universe as seen by your c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D5A5-16ED-43AE-90EB-D96455049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d signals are “Discrete-Time”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Signals also have discrete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is a particular number system used to represent the “Quantized” sample values.  We sometimes u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al (Base “8” – 3 bits/word) or Hex (Base “16” – 4 bits/word) as shorthand number systems to represent a bina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0137-1C8F-4B72-907A-053C5EF6B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amplification is a function of the impedances (Input &amp; Output) as well as voltage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2E1F-C119-4BCA-A9E8-143C380F3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al Amplifiers were introduced in your Circuits course(s) and will be used in the associated laboratory to this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ended (balanced) input and output (differential mode signals).  This configuration attempts to reject common mode signals at the in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ended (unbalanced) input and output (common mode sign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A796-1CC9-44CD-BBFF-A57B87FB9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work at D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out = power in (No Power Gain, Some power lo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41B4-313A-4A8C-B29A-183768546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know how to deal with logarithms and their inverse, the exponential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674B-7CBF-464F-81CB-960D73D97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CC” relates to the “collector” of an npn, bipolar transi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“EE” relates to the emitter of an npn, bipolar transi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rms are used generically in circuits using other components.  In an earlier era we used notation from Vacuum Tu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36C0-DEEC-4F12-A309-6FFB9F40E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(Power delivered to the load)/(Power supplied to Amplifi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es the rest of the power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D686-B76C-44BD-A73C-37BA8F036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metr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± power suppl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llow the inputs/outputs to swing symmetrically +/- and signals can approach the “rails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nd on the OpAmp is show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  It is the other differential input (no input signal) that is gr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061D-5CED-40A4-8C7C-B081E5A34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previous work (LTI systems), the world was assumed to be linear so that “superposition” could be us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ld is non-linear and we must learn to deal with i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always do a “Small Signal Analysis” where an assumption of linearity is still reasonably accur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of the device operational curve(s) at the “Quiescent Point” determines the small signal para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t of curves indicate that there would be “soft clipping” of the signal as the output signal approached the “rail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CC26-8748-42F1-A975-53C04C221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ssumes linear behavior.  Amplifiers can exhibit non-linear behavior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DD01-4E9B-4EB3-BB72-B1DBF6903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nonlinear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4785-538C-45FC-9F86-53035F988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real OpAmps are not quite “Idea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B1C2-0311-417D-8385-6404D78A8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evices do exist as integrated cicuit products that we can use in our de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34AD-564C-41B5-A204-74E0E785F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58FB-31F6-40EF-B1DA-607F02C86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vary the “load” resistor to determine the output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B571-5F0E-4DDD-BA57-ECDC006A9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polar transistor is best modeled as a current controlled current amplif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8A83-B164-400E-8DAF-6A44A66E1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only a small signal model! As the input actually looks like a diode, not a resist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exhibits Saturation and Cutoff nonlinear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AB35-0B9B-4898-B953-7FC2B8A91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* (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* (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125B-E5F9-48D9-817B-CD3DA0E6C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s why we (EEs) use single frequency analys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ay that is often used to measure frequency response is to apply a “white noise” signal and examine the output “spectrum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7B00-18A7-4350-80E9-DDAD77BC4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” in shape as in similar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0F0E-FFB5-4A3F-A95E-5D0479D10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 shift is related to “Delay” by the frequency (actually the period) of the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should be in Radians but is commonly stated in deg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250A-7836-46E5-BB3C-531938BBC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db points are the “half power” points of the frequency response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D9BF-6729-40FA-9C2C-E349E6A3F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 from your circuits cour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BDE1-4AC4-4B19-A3ED-296ED0044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C circuits were studied in the first Circuits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63FF-A2E8-448D-9C0A-3795BFD35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e Plots are a major subject in the AC circuits course (EE221 at Fairfield) and again in both Signals and Systems (EE301 at Fairfield) and Feedback Control (EE302, MC300 at Fairfield) cour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7EA2-93B9-4C36-B551-C1668D2EA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re expected to be proficient in all of the basic passive circuit analysis techniques.  Examples here are Thevenin and Norton equivalent 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12BB-4C1C-422A-A7A1-806EE3AAB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dB per decade (factor of 10 in frequency) equates to 6 dB per “Octa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ctave is the range over which the frequency is doubled (from musi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4E4F-0EBF-4CA4-BFC2-2D2B6FAC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ing capacitors block “DC” so that you can separately “bias” each amplifier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D423-A479-4C43-A0B6-02FC8EA7D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y Generalized Fourier Series Tutorial at:  http://DoctorD.webhop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F1F3-165D-462C-A880-0AB523BE7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used is the Complex Exponential form which is related to the Sine-Cosine form by the Euler rel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(x) =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jx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-jx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(x) =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jx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-jx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/2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E51A-F908-4249-AEEE-34C63D16C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47B5B-45B9-4902-9881-EA388786A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76DC5-03DA-42F3-A617-85ACFF065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C1267-12EA-48B8-AC30-3638CCFBF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150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7880" y="205740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522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150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7880" y="4166640"/>
            <a:ext cx="2821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D81E-F573-407A-868E-371E622FCF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51974-A3F7-4480-9A3C-7A671B0623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ACF6-494B-4CC8-82EA-9E4C2798E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809FE-3AB2-4801-BD65-F380C1316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71A4-4452-4177-9270-5554F2AFB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3657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3B99-2161-4BCC-848D-457DBCAED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0E8A-830A-4A0B-90F5-AEBCBC545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2560" y="416664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34907-FA27-4D2E-A115-C7A35B8CF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2560" y="2057400"/>
            <a:ext cx="427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4166640"/>
            <a:ext cx="8763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471D1-E56A-4B21-A6C1-992345403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1"/>
          <p:cNvSpPr/>
          <p:nvPr/>
        </p:nvSpPr>
        <p:spPr>
          <a:xfrm>
            <a:off x="0" y="0"/>
            <a:ext cx="1371600" cy="167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1371600" y="0"/>
            <a:ext cx="4114800" cy="16765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28240" y="617184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C2DE-8FED-4DD8-B17F-FD3D21C4F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1371600" y="1600200"/>
            <a:ext cx="41148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93"/>
          <p:cNvSpPr/>
          <p:nvPr/>
        </p:nvSpPr>
        <p:spPr>
          <a:xfrm>
            <a:off x="0" y="1600200"/>
            <a:ext cx="13716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4" descr="oxford logo4"/>
          <p:cNvPicPr/>
          <p:nvPr/>
        </p:nvPicPr>
        <p:blipFill>
          <a:blip r:embed="rId2"/>
          <a:stretch/>
        </p:blipFill>
        <p:spPr>
          <a:xfrm>
            <a:off x="103320" y="152280"/>
            <a:ext cx="506160" cy="1295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5" descr="book cover2"/>
          <p:cNvPicPr/>
          <p:nvPr/>
        </p:nvPicPr>
        <p:blipFill>
          <a:blip r:embed="rId3"/>
          <a:stretch/>
        </p:blipFill>
        <p:spPr>
          <a:xfrm>
            <a:off x="914400" y="2286000"/>
            <a:ext cx="2797200" cy="36939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96"/>
          <p:cNvSpPr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Chapter #1: Signals and Amplifiers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croelectronic Circu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edra and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ford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981080"/>
            <a:ext cx="449568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a Fourier Series?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one calculat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urier Ser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square wave bel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upcoming slide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se01F05"/>
          <p:cNvPicPr/>
          <p:nvPr/>
        </p:nvPicPr>
        <p:blipFill>
          <a:blip r:embed="rId1"/>
          <a:stretch/>
        </p:blipFill>
        <p:spPr>
          <a:xfrm>
            <a:off x="1981080" y="3505320"/>
            <a:ext cx="5164200" cy="25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ier Series 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1447920" y="2362320"/>
          <a:ext cx="6197400" cy="34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62320"/>
                    <a:ext cx="619740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ier Series 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1922400" y="2057400"/>
          <a:ext cx="539280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2057400"/>
                    <a:ext cx="539280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ier Series 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907920" y="1981080"/>
          <a:ext cx="732168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981080"/>
                    <a:ext cx="732168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4"/>
          <p:cNvSpPr/>
          <p:nvPr/>
        </p:nvSpPr>
        <p:spPr>
          <a:xfrm>
            <a:off x="4038480" y="150840"/>
            <a:ext cx="495324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is series may be truncated because the magnitude of each terms decreases with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1981080"/>
            <a:ext cx="43434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ier Series 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se01F06"/>
          <p:cNvPicPr/>
          <p:nvPr/>
        </p:nvPicPr>
        <p:blipFill>
          <a:blip r:embed="rId1"/>
          <a:stretch/>
        </p:blipFill>
        <p:spPr>
          <a:xfrm>
            <a:off x="907920" y="2133720"/>
            <a:ext cx="7321680" cy="3566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914400" y="5791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6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he frequency spectrum (also known as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line spectr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) of the periodic square wave of Fig. 1.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1981080"/>
            <a:ext cx="4343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requency Spectrum of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the sinusoidal wave belo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380880" y="3583080"/>
          <a:ext cx="284328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83080"/>
                    <a:ext cx="284328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6" descr="se01F04"/>
          <p:cNvPicPr/>
          <p:nvPr/>
        </p:nvPicPr>
        <p:blipFill>
          <a:blip r:embed="rId3"/>
          <a:stretch/>
        </p:blipFill>
        <p:spPr>
          <a:xfrm>
            <a:off x="3352680" y="2743200"/>
            <a:ext cx="5486400" cy="3079800"/>
          </a:xfrm>
          <a:prstGeom prst="rect">
            <a:avLst/>
          </a:prstGeom>
          <a:ln w="0">
            <a:noFill/>
          </a:ln>
        </p:spPr>
      </p:pic>
      <p:sp>
        <p:nvSpPr>
          <p:cNvPr id="122" name="Line 6"/>
          <p:cNvSpPr/>
          <p:nvPr/>
        </p:nvSpPr>
        <p:spPr>
          <a:xfrm flipV="1">
            <a:off x="5410080" y="449532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52280" y="5759280"/>
            <a:ext cx="62485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oot mean square magnitud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sine wave amplitude / square root of tw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762120" y="2057400"/>
            <a:ext cx="32763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617220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requency Spectrum of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urier Transfor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applied to a non-periodic function of ti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, however (as opposed to a discrete frequency spectrum) it will yield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ntinuou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se01F03"/>
          <p:cNvPicPr/>
          <p:nvPr/>
        </p:nvPicPr>
        <p:blipFill>
          <a:blip r:embed="rId1"/>
          <a:stretch/>
        </p:blipFill>
        <p:spPr>
          <a:xfrm>
            <a:off x="152280" y="4379760"/>
            <a:ext cx="4114800" cy="194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se01F07"/>
          <p:cNvPicPr/>
          <p:nvPr/>
        </p:nvPicPr>
        <p:blipFill>
          <a:blip r:embed="rId2"/>
          <a:stretch/>
        </p:blipFill>
        <p:spPr>
          <a:xfrm>
            <a:off x="4800600" y="396252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8"/>
          <p:cNvSpPr/>
          <p:nvPr/>
        </p:nvSpPr>
        <p:spPr>
          <a:xfrm>
            <a:off x="2438280" y="4111560"/>
            <a:ext cx="2130480" cy="1069920"/>
          </a:xfrm>
          <a:prstGeom prst="rightArrow">
            <a:avLst>
              <a:gd name="adj1" fmla="val 50000"/>
              <a:gd name="adj2" fmla="val 49781"/>
            </a:avLst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og and Digital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analog signa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ontinuous with respect to both value and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iscrete-time sign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continuous with respect to value bu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ampl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discrete points i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igital sig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quantiz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pplied to values) as well 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ampl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discrete points i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2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- Fifth Edition    Sedra/Smi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6F48-E8E4-480A-9285-98D8090D1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075" descr="sedr42021_0109"/>
          <p:cNvPicPr/>
          <p:nvPr/>
        </p:nvPicPr>
        <p:blipFill>
          <a:blip r:embed="rId1"/>
          <a:stretch/>
        </p:blipFill>
        <p:spPr>
          <a:xfrm>
            <a:off x="1816200" y="2590920"/>
            <a:ext cx="5575320" cy="16095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077"/>
          <p:cNvSpPr/>
          <p:nvPr/>
        </p:nvSpPr>
        <p:spPr>
          <a:xfrm>
            <a:off x="380880" y="5715000"/>
            <a:ext cx="8763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Figure 1.9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lock-diagram representation of the analog-to-digital converter (ADC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685800" y="2133720"/>
            <a:ext cx="327672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og and Digital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7" descr="se01F03"/>
          <p:cNvPicPr/>
          <p:nvPr/>
        </p:nvPicPr>
        <p:blipFill>
          <a:blip r:embed="rId1"/>
          <a:stretch/>
        </p:blipFill>
        <p:spPr>
          <a:xfrm>
            <a:off x="990720" y="2057400"/>
            <a:ext cx="3446280" cy="1628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se01F08"/>
          <p:cNvPicPr/>
          <p:nvPr/>
        </p:nvPicPr>
        <p:blipFill>
          <a:blip r:embed="rId2"/>
          <a:stretch/>
        </p:blipFill>
        <p:spPr>
          <a:xfrm>
            <a:off x="1066680" y="4267080"/>
            <a:ext cx="7088400" cy="1878120"/>
          </a:xfrm>
          <a:prstGeom prst="rect">
            <a:avLst/>
          </a:prstGeom>
          <a:ln w="0">
            <a:noFill/>
          </a:ln>
        </p:spPr>
      </p:pic>
      <p:sp>
        <p:nvSpPr>
          <p:cNvPr id="144" name="Line 5"/>
          <p:cNvSpPr/>
          <p:nvPr/>
        </p:nvSpPr>
        <p:spPr>
          <a:xfrm>
            <a:off x="6705720" y="365760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6"/>
          <p:cNvSpPr/>
          <p:nvPr/>
        </p:nvSpPr>
        <p:spPr>
          <a:xfrm flipH="1">
            <a:off x="3962160" y="2895480"/>
            <a:ext cx="160020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7"/>
          <p:cNvSpPr/>
          <p:nvPr/>
        </p:nvSpPr>
        <p:spPr>
          <a:xfrm flipH="1">
            <a:off x="4114800" y="22860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5257800" y="1981080"/>
            <a:ext cx="2666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alog sig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257800" y="2666880"/>
            <a:ext cx="36576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screte-time sig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248520" y="3352680"/>
            <a:ext cx="2666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gital sig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IS CHAPTER YOU WILL LEAR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ectronic circuits process sign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thus understanding electrical signals is essential to appreciating the material in this boo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venin and Nort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ons of signal sour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presentation of a signal 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m of sine wav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alog and digit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resentations of a sig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9" descr="se01F08"/>
          <p:cNvPicPr/>
          <p:nvPr/>
        </p:nvPicPr>
        <p:blipFill>
          <a:blip r:embed="rId1"/>
          <a:stretch/>
        </p:blipFill>
        <p:spPr>
          <a:xfrm>
            <a:off x="1066680" y="4267080"/>
            <a:ext cx="7088400" cy="1878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se01F03"/>
          <p:cNvPicPr/>
          <p:nvPr/>
        </p:nvPicPr>
        <p:blipFill>
          <a:blip r:embed="rId2"/>
          <a:stretch/>
        </p:blipFill>
        <p:spPr>
          <a:xfrm>
            <a:off x="990720" y="2057400"/>
            <a:ext cx="3446280" cy="1628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2"/>
          <p:cNvSpPr/>
          <p:nvPr/>
        </p:nvSpPr>
        <p:spPr>
          <a:xfrm>
            <a:off x="533520" y="1981080"/>
            <a:ext cx="79246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og and Digital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152388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167652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182880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198108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213372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228600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243828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259092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274320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289548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304812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22"/>
          <p:cNvSpPr/>
          <p:nvPr/>
        </p:nvSpPr>
        <p:spPr>
          <a:xfrm>
            <a:off x="320040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23"/>
          <p:cNvSpPr/>
          <p:nvPr/>
        </p:nvSpPr>
        <p:spPr>
          <a:xfrm>
            <a:off x="335268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350532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365760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26"/>
          <p:cNvSpPr/>
          <p:nvPr/>
        </p:nvSpPr>
        <p:spPr>
          <a:xfrm>
            <a:off x="380988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27"/>
          <p:cNvSpPr/>
          <p:nvPr/>
        </p:nvSpPr>
        <p:spPr>
          <a:xfrm>
            <a:off x="396252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411480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426708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30"/>
          <p:cNvSpPr/>
          <p:nvPr/>
        </p:nvSpPr>
        <p:spPr>
          <a:xfrm>
            <a:off x="1371600" y="43434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31"/>
          <p:cNvSpPr/>
          <p:nvPr/>
        </p:nvSpPr>
        <p:spPr>
          <a:xfrm>
            <a:off x="5105520" y="457200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5105520" y="441972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33"/>
          <p:cNvSpPr/>
          <p:nvPr/>
        </p:nvSpPr>
        <p:spPr>
          <a:xfrm>
            <a:off x="5105520" y="47242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34"/>
          <p:cNvSpPr/>
          <p:nvPr/>
        </p:nvSpPr>
        <p:spPr>
          <a:xfrm>
            <a:off x="5105520" y="487692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35"/>
          <p:cNvSpPr/>
          <p:nvPr/>
        </p:nvSpPr>
        <p:spPr>
          <a:xfrm>
            <a:off x="5105520" y="502920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36"/>
          <p:cNvSpPr/>
          <p:nvPr/>
        </p:nvSpPr>
        <p:spPr>
          <a:xfrm>
            <a:off x="5105520" y="5181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37"/>
          <p:cNvSpPr/>
          <p:nvPr/>
        </p:nvSpPr>
        <p:spPr>
          <a:xfrm>
            <a:off x="5105520" y="533412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ine 38"/>
          <p:cNvSpPr/>
          <p:nvPr/>
        </p:nvSpPr>
        <p:spPr>
          <a:xfrm>
            <a:off x="5105520" y="548640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Line 39"/>
          <p:cNvSpPr/>
          <p:nvPr/>
        </p:nvSpPr>
        <p:spPr>
          <a:xfrm>
            <a:off x="5105520" y="56386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5105520" y="579132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105520" y="594360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44"/>
          <p:cNvSpPr/>
          <p:nvPr/>
        </p:nvSpPr>
        <p:spPr>
          <a:xfrm rot="5400000">
            <a:off x="1333080" y="3085920"/>
            <a:ext cx="2743200" cy="1447920"/>
          </a:xfrm>
          <a:prstGeom prst="rightArrow">
            <a:avLst>
              <a:gd name="adj1" fmla="val 50000"/>
              <a:gd name="adj2" fmla="val 47364"/>
            </a:avLst>
          </a:prstGeom>
          <a:solidFill>
            <a:srgbClr val="ffff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45"/>
          <p:cNvSpPr/>
          <p:nvPr/>
        </p:nvSpPr>
        <p:spPr>
          <a:xfrm rot="5400000">
            <a:off x="1842840" y="34430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amp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47"/>
          <p:cNvSpPr/>
          <p:nvPr/>
        </p:nvSpPr>
        <p:spPr>
          <a:xfrm>
            <a:off x="3429000" y="4419720"/>
            <a:ext cx="2743200" cy="1447560"/>
          </a:xfrm>
          <a:prstGeom prst="rightArrow">
            <a:avLst>
              <a:gd name="adj1" fmla="val 50000"/>
              <a:gd name="adj2" fmla="val 47376"/>
            </a:avLst>
          </a:prstGeom>
          <a:solidFill>
            <a:srgbClr val="ffff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8"/>
          <p:cNvSpPr/>
          <p:nvPr/>
        </p:nvSpPr>
        <p:spPr>
          <a:xfrm>
            <a:off x="3505320" y="483084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uant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og and Digital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733560" y="1981080"/>
            <a:ext cx="5181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digital and binary synonymou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o.  The binary number system (bas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one way to represent digital sign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4317840" y="4495680"/>
          <a:ext cx="4140360" cy="21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4495680"/>
                    <a:ext cx="414036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Picture 9" descr="se01F08"/>
          <p:cNvPicPr/>
          <p:nvPr/>
        </p:nvPicPr>
        <p:blipFill>
          <a:blip r:embed="rId3"/>
          <a:stretch/>
        </p:blipFill>
        <p:spPr>
          <a:xfrm>
            <a:off x="0" y="2133720"/>
            <a:ext cx="3733920" cy="187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se01F09"/>
          <p:cNvPicPr/>
          <p:nvPr/>
        </p:nvPicPr>
        <p:blipFill>
          <a:blip r:embed="rId4"/>
          <a:stretch/>
        </p:blipFill>
        <p:spPr>
          <a:xfrm>
            <a:off x="277920" y="4268880"/>
            <a:ext cx="3456000" cy="1674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1447920" y="2590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295280" y="4572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gital and bi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gnal amplif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eed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many transducers yield output 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w power leve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linear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property of an amplifier which ensures a signal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 “altered”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ampl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istor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an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nintended chan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gnal Amplific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voltage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used to boost voltage levels f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creased res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power ampl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to boost current levels f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creased “intensity”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2857680" y="4067280"/>
          <a:ext cx="3390840" cy="88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4067280"/>
                    <a:ext cx="339084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" name="Group 5"/>
          <p:cNvGrpSpPr/>
          <p:nvPr/>
        </p:nvGrpSpPr>
        <p:grpSpPr>
          <a:xfrm>
            <a:off x="3124080" y="4952880"/>
            <a:ext cx="2667240" cy="1135440"/>
            <a:chOff x="3124080" y="4952880"/>
            <a:chExt cx="2667240" cy="1135440"/>
          </a:xfrm>
        </p:grpSpPr>
        <p:sp>
          <p:nvSpPr>
            <p:cNvPr id="208" name="Line 6"/>
            <p:cNvSpPr/>
            <p:nvPr/>
          </p:nvSpPr>
          <p:spPr>
            <a:xfrm flipV="1">
              <a:off x="4419720" y="49528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 Box 7"/>
            <p:cNvSpPr/>
            <p:nvPr/>
          </p:nvSpPr>
          <p:spPr>
            <a:xfrm>
              <a:off x="3124080" y="5506920"/>
              <a:ext cx="26672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alibri"/>
                </a:rPr>
                <a:t>voltage gai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1981080"/>
            <a:ext cx="4572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plifier Circuit Symbo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4" descr="se01F11"/>
          <p:cNvPicPr/>
          <p:nvPr/>
        </p:nvPicPr>
        <p:blipFill>
          <a:blip r:embed="rId1"/>
          <a:stretch/>
        </p:blipFill>
        <p:spPr>
          <a:xfrm>
            <a:off x="152280" y="2057400"/>
            <a:ext cx="8763120" cy="2563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457200" y="4800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11: (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Circuit symbol for amplifier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An amplifier with a common terminal (ground) between the input and output po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ower and Current Gai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3059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in differ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tween an amplifier and transformer?  …Because both alter voltag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plifier may be used to boost power delive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1592280" y="4267080"/>
          <a:ext cx="595152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2280" y="4267080"/>
                    <a:ext cx="595152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5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Expressing Gain in Decibe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may gain be expressed in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ecibe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3503520"/>
          <a:ext cx="5567400" cy="16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503520"/>
                    <a:ext cx="55674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6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plifier Power Suppl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uppli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an amplifier h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supp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ositive, curr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dra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egative, curr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dra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power dra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from these supplies is defined be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C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6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plifier Power Suppl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nservation of pow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dictates that power inpu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plus that drawn from supply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equal to outpu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plus that which is dissipated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issap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efficien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th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 of power output to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cy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d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80880" y="2057400"/>
            <a:ext cx="396252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6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mplifier Power Suppl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se01F13"/>
          <p:cNvPicPr/>
          <p:nvPr/>
        </p:nvPicPr>
        <p:blipFill>
          <a:blip r:embed="rId1"/>
          <a:stretch/>
        </p:blipFill>
        <p:spPr>
          <a:xfrm>
            <a:off x="228600" y="2013120"/>
            <a:ext cx="8534520" cy="37018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228600" y="5883120"/>
            <a:ext cx="8686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1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n amplifier that requires two dc supplies (shown as batteries) for ope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IS CHAPTER YOU WILL LEAR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basic and pervasive signal-processing function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gnal amplif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correspondingly, the signal amplif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mplifiers are characteriz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modeled) as circuit building blocks independent of their internal circuit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requency respon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an amplifier is measured, and how it is calculated, especially in the simple but common case of a single-time-constant (STC) type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4.7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plifier Satu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limited linear ran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practically, amplifier operation is linear over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mited input ran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atur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beyond this range, saturation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remains constant as input v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3429000" y="4219560"/>
          <a:ext cx="2257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219560"/>
                    <a:ext cx="2257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rcuit Models for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mode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the description of component’s (e.g. amplifier)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minal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lecting internal operation / transistor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5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9480" y="2133720"/>
            <a:ext cx="35816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066680" y="2666880"/>
            <a:ext cx="25146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5" descr="se01F16"/>
          <p:cNvPicPr/>
          <p:nvPr/>
        </p:nvPicPr>
        <p:blipFill>
          <a:blip r:embed="rId1"/>
          <a:srcRect l="40681" t="0" r="0" b="0"/>
          <a:stretch/>
        </p:blipFill>
        <p:spPr>
          <a:xfrm>
            <a:off x="1471680" y="4038480"/>
            <a:ext cx="5857920" cy="2438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Object 7"/>
          <p:cNvGraphicFramePr/>
          <p:nvPr/>
        </p:nvGraphicFramePr>
        <p:xfrm>
          <a:off x="152280" y="2057400"/>
          <a:ext cx="4013280" cy="198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057400"/>
                    <a:ext cx="401328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8"/>
          <p:cNvGraphicFramePr/>
          <p:nvPr/>
        </p:nvGraphicFramePr>
        <p:xfrm>
          <a:off x="4495680" y="2057400"/>
          <a:ext cx="4507200" cy="199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3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2057400"/>
                    <a:ext cx="450720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9"/>
          <p:cNvSpPr/>
          <p:nvPr/>
        </p:nvSpPr>
        <p:spPr>
          <a:xfrm>
            <a:off x="1905120" y="304812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6477120" y="304812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5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304920" y="1981080"/>
            <a:ext cx="40384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one model the amplifier behavior from previous sli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 which is function of: 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vo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1459080" y="3809880"/>
          <a:ext cx="61610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3809880"/>
                    <a:ext cx="61610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12"/>
          <p:cNvSpPr/>
          <p:nvPr/>
        </p:nvSpPr>
        <p:spPr>
          <a:xfrm>
            <a:off x="1981080" y="3733920"/>
            <a:ext cx="3048120" cy="28191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13"/>
          <p:cNvSpPr/>
          <p:nvPr/>
        </p:nvSpPr>
        <p:spPr>
          <a:xfrm>
            <a:off x="5257800" y="556272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5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609480" y="2057400"/>
            <a:ext cx="381024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one “problem” with this behavi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 (ratio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not constant, a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pendent on input and load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Object 5"/>
          <p:cNvGraphicFramePr/>
          <p:nvPr/>
        </p:nvGraphicFramePr>
        <p:xfrm>
          <a:off x="1459080" y="3809880"/>
          <a:ext cx="61610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3809880"/>
                    <a:ext cx="61610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6"/>
          <p:cNvSpPr/>
          <p:nvPr/>
        </p:nvSpPr>
        <p:spPr>
          <a:xfrm>
            <a:off x="1981080" y="3733920"/>
            <a:ext cx="3048120" cy="28191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05720" y="5562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609480" y="6095880"/>
            <a:ext cx="79250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deal amplifier mode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neglects this nonlinear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457200" y="1981080"/>
            <a:ext cx="33526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16"/>
          <p:cNvSpPr/>
          <p:nvPr/>
        </p:nvSpPr>
        <p:spPr>
          <a:xfrm>
            <a:off x="838080" y="2057400"/>
            <a:ext cx="274320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deal amplifier mode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vo</a:t>
            </a:r>
            <a:r>
              <a:rPr b="0" lang="en-US" sz="28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nly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ssumed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ssumed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" name="Object 4"/>
          <p:cNvGraphicFramePr/>
          <p:nvPr/>
        </p:nvGraphicFramePr>
        <p:xfrm>
          <a:off x="4495680" y="-1600200"/>
          <a:ext cx="381168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-1600200"/>
                    <a:ext cx="381168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Rectangle 7"/>
          <p:cNvSpPr/>
          <p:nvPr/>
        </p:nvSpPr>
        <p:spPr>
          <a:xfrm>
            <a:off x="4186080" y="6553080"/>
            <a:ext cx="609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5557680" y="4267080"/>
            <a:ext cx="685800" cy="609840"/>
          </a:xfrm>
          <a:prstGeom prst="rect">
            <a:avLst/>
          </a:prstGeom>
          <a:solidFill>
            <a:srgbClr val="b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5557680" y="4724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Group 1"/>
          <p:cNvGrpSpPr/>
          <p:nvPr/>
        </p:nvGrpSpPr>
        <p:grpSpPr>
          <a:xfrm>
            <a:off x="838080" y="4140360"/>
            <a:ext cx="6934320" cy="1803240"/>
            <a:chOff x="838080" y="4140360"/>
            <a:chExt cx="6934320" cy="1803240"/>
          </a:xfrm>
        </p:grpSpPr>
        <p:pic>
          <p:nvPicPr>
            <p:cNvPr id="286" name="Picture 5" descr="se01F16"/>
            <p:cNvPicPr/>
            <p:nvPr/>
          </p:nvPicPr>
          <p:blipFill>
            <a:blip r:embed="rId3"/>
            <a:srcRect l="40551" t="0" r="0" b="0"/>
            <a:stretch/>
          </p:blipFill>
          <p:spPr>
            <a:xfrm>
              <a:off x="838080" y="4140360"/>
              <a:ext cx="693432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10"/>
            <p:cNvSpPr/>
            <p:nvPr/>
          </p:nvSpPr>
          <p:spPr>
            <a:xfrm>
              <a:off x="3619440" y="4572000"/>
              <a:ext cx="685800" cy="609480"/>
            </a:xfrm>
            <a:prstGeom prst="rect">
              <a:avLst/>
            </a:prstGeom>
            <a:solidFill>
              <a:srgbClr val="b9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Oval 11"/>
          <p:cNvSpPr/>
          <p:nvPr/>
        </p:nvSpPr>
        <p:spPr>
          <a:xfrm>
            <a:off x="36529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Oval 12"/>
          <p:cNvSpPr/>
          <p:nvPr/>
        </p:nvSpPr>
        <p:spPr>
          <a:xfrm>
            <a:off x="3652920" y="5791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228600" y="5807160"/>
            <a:ext cx="86868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key characteristics of ideal voltage amplifier model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igh input impedance, low output imped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3124080" y="36576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n-ideal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48120" y="4114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deal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8"/>
          <p:cNvSpPr/>
          <p:nvPr/>
        </p:nvSpPr>
        <p:spPr>
          <a:xfrm>
            <a:off x="609480" y="2133720"/>
            <a:ext cx="289584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838080" y="2057400"/>
            <a:ext cx="274320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1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Voltage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deal amplifier mode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is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vo</a:t>
            </a:r>
            <a:r>
              <a:rPr b="0" lang="en-US" sz="28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nly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ssumed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ssumed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Object 5"/>
          <p:cNvGraphicFramePr/>
          <p:nvPr/>
        </p:nvGraphicFramePr>
        <p:xfrm>
          <a:off x="2394000" y="3684600"/>
          <a:ext cx="438768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4000" y="3684600"/>
                    <a:ext cx="43876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Text Box 17"/>
          <p:cNvSpPr/>
          <p:nvPr/>
        </p:nvSpPr>
        <p:spPr>
          <a:xfrm>
            <a:off x="228600" y="5807160"/>
            <a:ext cx="8686800" cy="8758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key characteristics of ideal voltage amplifier model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ource resistance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nd load resistance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have no effect on 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ascaded Amplifi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 real life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 amplifier is not ideal and will not have infinite input impedance or zero output imped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asca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mplifiers, however, may be used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mphasize desirable characterist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rst amplifier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hig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medium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ast amplifi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medium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low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ggregate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low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1.3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caded Amplifier Configura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system of cascaded amplifiers on next sl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a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overa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olt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ai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b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overa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ai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c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overal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ai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1.3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caded Amplifier Configura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4" descr="se01F17"/>
          <p:cNvPicPr/>
          <p:nvPr/>
        </p:nvPicPr>
        <p:blipFill>
          <a:blip r:embed="rId1"/>
          <a:stretch/>
        </p:blipFill>
        <p:spPr>
          <a:xfrm>
            <a:off x="304920" y="2089080"/>
            <a:ext cx="8610480" cy="27115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990720" y="5105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17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hree-stage amplifier for Example 1.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2362320" y="1981080"/>
            <a:ext cx="518148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7"/>
          <p:cNvSpPr/>
          <p:nvPr/>
        </p:nvSpPr>
        <p:spPr>
          <a:xfrm>
            <a:off x="1295280" y="304920"/>
            <a:ext cx="6324840" cy="4647960"/>
          </a:xfrm>
          <a:custGeom>
            <a:avLst/>
            <a:gdLst/>
            <a:ahLst/>
            <a:rect l="l" t="t" r="r" b="b"/>
            <a:pathLst>
              <a:path w="3984" h="2928">
                <a:moveTo>
                  <a:pt x="0" y="0"/>
                </a:moveTo>
                <a:lnTo>
                  <a:pt x="0" y="2928"/>
                </a:lnTo>
                <a:lnTo>
                  <a:pt x="3984" y="1488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1371600" y="17524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ggregate amplifie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ith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5" name="Object 9"/>
          <p:cNvGraphicFramePr/>
          <p:nvPr/>
        </p:nvGraphicFramePr>
        <p:xfrm>
          <a:off x="1936800" y="2793960"/>
          <a:ext cx="2178000" cy="104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36800" y="2793960"/>
                    <a:ext cx="21780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igna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s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voice of radio announcer reading the n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proces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peration which allows an observer to understand this information from a sig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 d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ectr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transduc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device whic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nverts sig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non-electrical to electrical fo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microphone (sound to electric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ther Amplifier Typ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7" descr="se01T01"/>
          <p:cNvPicPr/>
          <p:nvPr/>
        </p:nvPicPr>
        <p:blipFill>
          <a:blip r:embed="rId1"/>
          <a:stretch/>
        </p:blipFill>
        <p:spPr>
          <a:xfrm>
            <a:off x="228600" y="2286000"/>
            <a:ext cx="8686800" cy="4307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5"/>
          <p:cNvSpPr/>
          <p:nvPr/>
        </p:nvSpPr>
        <p:spPr>
          <a:xfrm>
            <a:off x="228600" y="1773360"/>
            <a:ext cx="41911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oltage amplif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4724280" y="1773360"/>
            <a:ext cx="41911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urrent amplif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228600" y="4287960"/>
            <a:ext cx="41911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nsconductance am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4724280" y="4287960"/>
            <a:ext cx="41911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nsresistance am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ther Amplifier Typ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7" descr="se01T01"/>
          <p:cNvPicPr/>
          <p:nvPr/>
        </p:nvPicPr>
        <p:blipFill>
          <a:blip r:embed="rId1"/>
          <a:stretch/>
        </p:blipFill>
        <p:spPr>
          <a:xfrm>
            <a:off x="228600" y="2286000"/>
            <a:ext cx="8686800" cy="430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9" name="Object 9"/>
          <p:cNvGraphicFramePr/>
          <p:nvPr/>
        </p:nvGraphicFramePr>
        <p:xfrm>
          <a:off x="258840" y="5370480"/>
          <a:ext cx="3967200" cy="133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Object 9" descr=""/>
                  <p:cNvPicPr/>
                  <p:nvPr/>
                </p:nvPicPr>
                <p:blipFill>
                  <a:blip r:embed="rId3">
                    <a:alphaModFix amt="90000"/>
                  </a:blip>
                  <a:stretch/>
                </p:blipFill>
                <p:spPr>
                  <a:xfrm>
                    <a:off x="258840" y="5370480"/>
                    <a:ext cx="396720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10"/>
          <p:cNvGraphicFramePr/>
          <p:nvPr/>
        </p:nvGraphicFramePr>
        <p:xfrm>
          <a:off x="4835520" y="1523880"/>
          <a:ext cx="40035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10" descr=""/>
                  <p:cNvPicPr/>
                  <p:nvPr/>
                </p:nvPicPr>
                <p:blipFill>
                  <a:blip r:embed="rId5">
                    <a:alphaModFix amt="90000"/>
                  </a:blip>
                  <a:stretch/>
                </p:blipFill>
                <p:spPr>
                  <a:xfrm>
                    <a:off x="4835520" y="1523880"/>
                    <a:ext cx="40035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11"/>
          <p:cNvGraphicFramePr/>
          <p:nvPr/>
        </p:nvGraphicFramePr>
        <p:xfrm>
          <a:off x="4915080" y="5372280"/>
          <a:ext cx="3848040" cy="1333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4" name="Object 11" descr=""/>
                  <p:cNvPicPr/>
                  <p:nvPr/>
                </p:nvPicPr>
                <p:blipFill>
                  <a:blip r:embed="rId7">
                    <a:alphaModFix amt="90000"/>
                  </a:blip>
                  <a:stretch/>
                </p:blipFill>
                <p:spPr>
                  <a:xfrm>
                    <a:off x="4915080" y="5372280"/>
                    <a:ext cx="38480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12"/>
          <p:cNvGraphicFramePr/>
          <p:nvPr/>
        </p:nvGraphicFramePr>
        <p:xfrm>
          <a:off x="254160" y="1523880"/>
          <a:ext cx="3966840" cy="1335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6" name="Object 12" descr=""/>
                  <p:cNvPicPr/>
                  <p:nvPr/>
                </p:nvPicPr>
                <p:blipFill>
                  <a:blip r:embed="rId9">
                    <a:alphaModFix amt="90000"/>
                  </a:blip>
                  <a:stretch/>
                </p:blipFill>
                <p:spPr>
                  <a:xfrm>
                    <a:off x="254160" y="1523880"/>
                    <a:ext cx="396684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Text Box 13"/>
          <p:cNvSpPr/>
          <p:nvPr/>
        </p:nvSpPr>
        <p:spPr>
          <a:xfrm>
            <a:off x="1066680" y="385452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alibri"/>
              </a:rPr>
              <a:t>voltage amplifi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5638680" y="385452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alibri"/>
              </a:rPr>
              <a:t>current amplifi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-380880" y="438768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alibri"/>
              </a:rPr>
              <a:t>transconductance amplifi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4114800" y="438768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alibri"/>
              </a:rPr>
              <a:t>transresistance amplifi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4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Relationship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ween Four Amp Mode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terchangeabili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although these four types exist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y of the fou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y be used to model any ampl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elated through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v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open circuit ga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2362320" y="3886200"/>
          <a:ext cx="43783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886200"/>
                    <a:ext cx="43783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5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termining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can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lculate input res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terminal behavi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ser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calculate vi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can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lculate output res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terminal behavi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source voltage (such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 voltage to outpu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 negative output current (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ulate vi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tion 1.5.5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ow can we calculate input resistance from terminal behavi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answer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bserv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calculate vi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ow can we calculate output resistance from terminal behavi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ve source voltage (such that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y voltage to output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e negative output current (-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culate via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-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5" descr="se01F18"/>
          <p:cNvPicPr/>
          <p:nvPr/>
        </p:nvPicPr>
        <p:blipFill>
          <a:blip r:embed="rId1"/>
          <a:stretch/>
        </p:blipFill>
        <p:spPr>
          <a:xfrm>
            <a:off x="380880" y="585720"/>
            <a:ext cx="8382240" cy="589140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3"/>
          <p:cNvSpPr/>
          <p:nvPr/>
        </p:nvSpPr>
        <p:spPr>
          <a:xfrm>
            <a:off x="380880" y="573084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18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Determining the output resis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.6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lateral Mode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unilateral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one in which signal flow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nly from input to outp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not rever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mos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actical amplifi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ll exhibit some reverse transmissio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762120" y="2057400"/>
            <a:ext cx="32004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2666880" y="6553080"/>
            <a:ext cx="381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1.4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-Emitter Circu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the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bipolar junction transis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BJ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ree-termi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powered up with dc source and operated with small signals, may b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deled by linear circuit be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0" y="6172200"/>
            <a:ext cx="4114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2451240" y="4073400"/>
            <a:ext cx="4559040" cy="270828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2"/>
          <p:cNvGrpSpPr/>
          <p:nvPr/>
        </p:nvGrpSpPr>
        <p:grpSpPr>
          <a:xfrm>
            <a:off x="749160" y="4211640"/>
            <a:ext cx="1495800" cy="2129040"/>
            <a:chOff x="749160" y="4211640"/>
            <a:chExt cx="1495800" cy="2129040"/>
          </a:xfrm>
        </p:grpSpPr>
        <p:pic>
          <p:nvPicPr>
            <p:cNvPr id="367" name="Picture 10" descr="http://www.clker.com/cliparts/4/e/6/0/11970895921290543447vermeil_IEC_NPN_Transistor_Symbol.svg.hi.png"/>
            <p:cNvPicPr/>
            <p:nvPr/>
          </p:nvPicPr>
          <p:blipFill>
            <a:blip r:embed="rId2"/>
            <a:stretch/>
          </p:blipFill>
          <p:spPr>
            <a:xfrm>
              <a:off x="1143000" y="4647600"/>
              <a:ext cx="1054800" cy="12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Box 1"/>
            <p:cNvSpPr/>
            <p:nvPr/>
          </p:nvSpPr>
          <p:spPr>
            <a:xfrm>
              <a:off x="1965240" y="600336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TextBox 10"/>
            <p:cNvSpPr/>
            <p:nvPr/>
          </p:nvSpPr>
          <p:spPr>
            <a:xfrm>
              <a:off x="1823040" y="421164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TextBox 11"/>
            <p:cNvSpPr/>
            <p:nvPr/>
          </p:nvSpPr>
          <p:spPr>
            <a:xfrm>
              <a:off x="749160" y="5121000"/>
              <a:ext cx="29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2666880" y="6553080"/>
            <a:ext cx="381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ample 1.4.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polar junction transistor (BJT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-terminal de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powered up with dc source and operated with small signals, may b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modeled by linear circuit belo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7" descr=""/>
          <p:cNvPicPr/>
          <p:nvPr/>
        </p:nvPicPr>
        <p:blipFill>
          <a:blip r:embed="rId1"/>
          <a:stretch/>
        </p:blipFill>
        <p:spPr>
          <a:xfrm>
            <a:off x="380880" y="949320"/>
            <a:ext cx="8534520" cy="50706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"/>
          <p:cNvSpPr/>
          <p:nvPr/>
        </p:nvSpPr>
        <p:spPr>
          <a:xfrm>
            <a:off x="4800600" y="51055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19 (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small-signal circuit model for a </a:t>
            </a:r>
            <a:r>
              <a:rPr b="0" lang="en-US" sz="2400" spc="-1" strike="noStrike">
                <a:solidFill>
                  <a:srgbClr val="3333ff"/>
                </a:solidFill>
                <a:latin typeface="Calibri"/>
                <a:ea typeface="MS PGothic"/>
              </a:rPr>
              <a:t>bipolar junction transistor (BJ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228600" y="477720"/>
            <a:ext cx="20574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3200400" y="5943600"/>
            <a:ext cx="20574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mi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6781680" y="477720"/>
            <a:ext cx="20574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ll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13"/>
          <p:cNvSpPr/>
          <p:nvPr/>
        </p:nvSpPr>
        <p:spPr>
          <a:xfrm flipH="1">
            <a:off x="2362320" y="457200"/>
            <a:ext cx="45720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14"/>
          <p:cNvSpPr/>
          <p:nvPr/>
        </p:nvSpPr>
        <p:spPr>
          <a:xfrm>
            <a:off x="6324480" y="1143000"/>
            <a:ext cx="53352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2438280" y="152280"/>
            <a:ext cx="3810240" cy="64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put resistance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2819520" y="838080"/>
            <a:ext cx="3809880" cy="64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utput resistance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17"/>
          <p:cNvSpPr/>
          <p:nvPr/>
        </p:nvSpPr>
        <p:spPr>
          <a:xfrm flipV="1">
            <a:off x="2743200" y="3962520"/>
            <a:ext cx="23623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228600" y="5105520"/>
            <a:ext cx="2666880" cy="1623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hort-circuit conductance (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2666880" y="6553080"/>
            <a:ext cx="381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1.4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-Emitter Circui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a)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ive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pression for the voltage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common-emitter circuit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2.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4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mA/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0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5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o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10480" cy="350820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2"/>
          <p:cNvSpPr/>
          <p:nvPr/>
        </p:nvSpPr>
        <p:spPr>
          <a:xfrm>
            <a:off x="914400" y="55180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19(b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he BJT connected as an amplifier with the emitter as a common terminal between input and output (called a common-emitter amplifi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4114800" y="685800"/>
            <a:ext cx="0" cy="3429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and output share common termi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228600" y="1981080"/>
            <a:ext cx="198108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228600" y="1523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7086600" y="1981080"/>
            <a:ext cx="182880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7010280" y="1523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1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re signals represen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thevenin for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oltage sourc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series resistan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erable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norton for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urrent sourc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parallel resistan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erable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 does one exami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requency respon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pplying sine-wav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of amplitud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frequency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cause, although its amplitude and phase may change, it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ape and frequency will n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6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Measuring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mplifier Frequency Respons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228600" y="5105520"/>
            <a:ext cx="87631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is characteristic of sine wave applied to linear circuit is u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762120" y="2133720"/>
            <a:ext cx="31240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6.1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Measuring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mplifier Frequency Respons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4" descr="se01F20"/>
          <p:cNvPicPr/>
          <p:nvPr/>
        </p:nvPicPr>
        <p:blipFill>
          <a:blip r:embed="rId1"/>
          <a:stretch/>
        </p:blipFill>
        <p:spPr>
          <a:xfrm>
            <a:off x="228600" y="2311560"/>
            <a:ext cx="8610480" cy="34797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1752480" y="1111320"/>
            <a:ext cx="5639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put and output are similar for linear ampl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6.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Measuring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mplifier Frequency Respons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amplifier transfer func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describes th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nput-output relations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n amplifier – or other device – with respect to various parameters, including frequency of input appl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complex val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ften defined in terms of magnitude and phase shi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7" name="Object 4"/>
          <p:cNvGraphicFramePr/>
          <p:nvPr/>
        </p:nvGraphicFramePr>
        <p:xfrm>
          <a:off x="2174760" y="5083200"/>
          <a:ext cx="4835520" cy="15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760" y="5083200"/>
                    <a:ext cx="483552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6.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plifier Bandwidth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bandwid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 devi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range of frequencies over which it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gnitude response is consta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within 3dB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an amplifier, what is main bandwidth concer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the bandwid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tends beyon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of frequencies it is expected to ampl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6.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plifier Bandwidth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4" descr="se01F21"/>
          <p:cNvPicPr/>
          <p:nvPr/>
        </p:nvPicPr>
        <p:blipFill>
          <a:blip r:embed="rId1"/>
          <a:stretch/>
        </p:blipFill>
        <p:spPr>
          <a:xfrm>
            <a:off x="380880" y="2133720"/>
            <a:ext cx="7578720" cy="390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6.4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gle Time-Constant Network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single time–constant (STC) networ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is composed of (or may be reduced to) 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active component and one res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low pass filt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attenuates output at high frequencies, allow low to p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high pass filt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attenuates output at low frequencies, allow high to p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time constant (</a:t>
            </a:r>
            <a:r>
              <a:rPr b="0" i="1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describes the length of time required for a network transient to settle from step change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762120" y="2057400"/>
            <a:ext cx="32004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6.4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gle Time-Constant Network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pass filter (left)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ttenuates output at high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pass filter (righ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Picture 4" descr="se01F22"/>
          <p:cNvPicPr/>
          <p:nvPr/>
        </p:nvPicPr>
        <p:blipFill>
          <a:blip r:embed="rId1"/>
          <a:stretch/>
        </p:blipFill>
        <p:spPr>
          <a:xfrm>
            <a:off x="614520" y="3505320"/>
            <a:ext cx="7386480" cy="29430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2"/>
          <p:cNvSpPr/>
          <p:nvPr/>
        </p:nvSpPr>
        <p:spPr>
          <a:xfrm>
            <a:off x="4419720" y="208908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2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wo examples of STC networks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a low-pass network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a high-pass net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Line 7"/>
          <p:cNvSpPr/>
          <p:nvPr/>
        </p:nvSpPr>
        <p:spPr>
          <a:xfrm>
            <a:off x="1371600" y="25909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Line 8"/>
          <p:cNvSpPr/>
          <p:nvPr/>
        </p:nvSpPr>
        <p:spPr>
          <a:xfrm>
            <a:off x="4038480" y="3124080"/>
            <a:ext cx="121932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6.4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gle Time-Constant Network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4" descr="se01F22"/>
          <p:cNvPicPr/>
          <p:nvPr/>
        </p:nvPicPr>
        <p:blipFill>
          <a:blip r:embed="rId1"/>
          <a:stretch/>
        </p:blipFill>
        <p:spPr>
          <a:xfrm>
            <a:off x="614520" y="3505320"/>
            <a:ext cx="7386480" cy="29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10"/>
          <p:cNvGraphicFramePr/>
          <p:nvPr/>
        </p:nvGraphicFramePr>
        <p:xfrm>
          <a:off x="1952640" y="277920"/>
          <a:ext cx="5210280" cy="284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52640" y="277920"/>
                    <a:ext cx="5210280" cy="28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Line 12"/>
          <p:cNvSpPr/>
          <p:nvPr/>
        </p:nvSpPr>
        <p:spPr>
          <a:xfrm>
            <a:off x="2209680" y="1295280"/>
            <a:ext cx="0" cy="2667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Line 13"/>
          <p:cNvSpPr/>
          <p:nvPr/>
        </p:nvSpPr>
        <p:spPr>
          <a:xfrm>
            <a:off x="3200400" y="2514600"/>
            <a:ext cx="19810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6.4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gle Time-Constant Network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2" name="Object 4"/>
          <p:cNvGraphicFramePr/>
          <p:nvPr/>
        </p:nvGraphicFramePr>
        <p:xfrm>
          <a:off x="1600200" y="531720"/>
          <a:ext cx="59436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531720"/>
                    <a:ext cx="59436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4" descr="se01F24"/>
          <p:cNvPicPr/>
          <p:nvPr/>
        </p:nvPicPr>
        <p:blipFill>
          <a:blip r:embed="rId1"/>
          <a:stretch/>
        </p:blipFill>
        <p:spPr>
          <a:xfrm>
            <a:off x="228600" y="4495680"/>
            <a:ext cx="8610480" cy="21322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se01F23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20066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2"/>
          <p:cNvSpPr/>
          <p:nvPr/>
        </p:nvSpPr>
        <p:spPr>
          <a:xfrm>
            <a:off x="914400" y="28195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Low-Pass Filter Magnitude (top-left) and Phase (top-right) Responses as well as High-Pass Filter (bottom-left) and Phase (bottom-right) Respo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609480" y="2133720"/>
            <a:ext cx="327672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se01F01"/>
          <p:cNvPicPr/>
          <p:nvPr/>
        </p:nvPicPr>
        <p:blipFill>
          <a:blip r:embed="rId1"/>
          <a:stretch/>
        </p:blipFill>
        <p:spPr>
          <a:xfrm>
            <a:off x="228600" y="2209680"/>
            <a:ext cx="8686800" cy="3557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228600" y="5883120"/>
            <a:ext cx="8686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igure 1.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wo alternative representations of a signal source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(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the Thévenin form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the Norton for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4" descr="se01F24"/>
          <p:cNvPicPr/>
          <p:nvPr/>
        </p:nvPicPr>
        <p:blipFill>
          <a:blip r:embed="rId1"/>
          <a:stretch/>
        </p:blipFill>
        <p:spPr>
          <a:xfrm>
            <a:off x="228600" y="4495680"/>
            <a:ext cx="8610480" cy="2132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se01F23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200664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2"/>
          <p:cNvSpPr/>
          <p:nvPr/>
        </p:nvSpPr>
        <p:spPr>
          <a:xfrm>
            <a:off x="914400" y="28195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Calibri"/>
                <a:ea typeface="MS PGothic"/>
              </a:rPr>
              <a:t>Figure: </a:t>
            </a:r>
            <a:r>
              <a:rPr b="0" lang="en-US" sz="2400" spc="-1" strike="noStrike">
                <a:solidFill>
                  <a:srgbClr val="c0c0c0"/>
                </a:solidFill>
                <a:latin typeface="Calibri"/>
                <a:ea typeface="MS PGothic"/>
              </a:rPr>
              <a:t>Low-Filter Magnitude (top-left) and Phase (top-right) Responses as well as High-Pass Filter (bottom-left) and Phase (bottom-right) Respo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1922040" y="802800"/>
            <a:ext cx="1261080" cy="98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Line 9"/>
          <p:cNvSpPr/>
          <p:nvPr/>
        </p:nvSpPr>
        <p:spPr>
          <a:xfrm flipV="1">
            <a:off x="474480" y="5069880"/>
            <a:ext cx="1261080" cy="98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Line 16"/>
          <p:cNvSpPr/>
          <p:nvPr/>
        </p:nvSpPr>
        <p:spPr>
          <a:xfrm>
            <a:off x="5808240" y="802800"/>
            <a:ext cx="1261080" cy="98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Line 17"/>
          <p:cNvSpPr/>
          <p:nvPr/>
        </p:nvSpPr>
        <p:spPr>
          <a:xfrm>
            <a:off x="6036840" y="5146200"/>
            <a:ext cx="1261080" cy="98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228600" y="22096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-20dB/decade drop, beginning from maximum gain at corner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228600" y="37656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20dB/decade incline, until maximum gain is reached at corner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4724280" y="22096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-45 degrees/decade drop, moving outward from -45 degree shift at corner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21"/>
          <p:cNvSpPr/>
          <p:nvPr/>
        </p:nvSpPr>
        <p:spPr>
          <a:xfrm>
            <a:off x="4724280" y="37339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-45 degrees/decade drop, moving outward from +45 degree shift at corner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0" y="1981080"/>
            <a:ext cx="4800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2"/>
          <p:cNvSpPr/>
          <p:nvPr/>
        </p:nvSpPr>
        <p:spPr>
          <a:xfrm>
            <a:off x="2666880" y="6553080"/>
            <a:ext cx="381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1.5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 Amplifi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voltage amplifier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resistan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capacitan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 factor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resistanc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a)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ive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pression for the amplifier voltage g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a function of frequency.  From this, find expressions for the dc gain and 3</a:t>
            </a:r>
            <a:r>
              <a:rPr b="0" i="1" lang="en-US" sz="2800" spc="-1" strike="noStrike">
                <a:solidFill>
                  <a:srgbClr val="777777"/>
                </a:solidFill>
                <a:latin typeface="Calibri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equ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2"/>
          <p:cNvSpPr/>
          <p:nvPr/>
        </p:nvSpPr>
        <p:spPr>
          <a:xfrm>
            <a:off x="0" y="1981080"/>
            <a:ext cx="4800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666880" y="6553080"/>
            <a:ext cx="381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1.5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 Amplifi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2" name="Picture 4" descr="se01F25"/>
          <p:cNvPicPr/>
          <p:nvPr/>
        </p:nvPicPr>
        <p:blipFill>
          <a:blip r:embed="rId1"/>
          <a:stretch/>
        </p:blipFill>
        <p:spPr>
          <a:xfrm>
            <a:off x="152280" y="3276720"/>
            <a:ext cx="8610840" cy="21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2"/>
          <p:cNvSpPr/>
          <p:nvPr/>
        </p:nvSpPr>
        <p:spPr>
          <a:xfrm>
            <a:off x="2666880" y="6553080"/>
            <a:ext cx="381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1.5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 Amplifie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b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unity-gain frequency?  How is it calcula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ain = 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known that the gain of a low-pass filter drops at 20dB per decade beginning a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Therefore unity gain will occur two decades pas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4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2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20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c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for each of the following input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.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6.5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lassification of Amps Based on Frequency Respons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internal capacitan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cause the falloff of gain at high frequ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those seen in previous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oupling capaci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cause the falloff of gain at low frequ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laced in between amplifier st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 chosen to be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6.5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lassification o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mps Based on Frequency Respons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irectly coupled / dc amplifier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allow passage of low frequ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capacitively coupled amplifier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allow passage of high frequ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tuned amplifi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allow passage of a “band” of frequ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n electrical signal source can be represented in either Thevenin form (a voltage source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n series with source resistance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 or the Norton form (a current source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n parallel with resistance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.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hevenin volta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open-circuit voltage between the source terminals.  The Norton curr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equal to the short-circuit current between the source terminals.  For the two representations to be equivalent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be equ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 signal can be represented either by its waveform vs time or as the sum of sinusoids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The latter representation is known as the frequency spectrum of the sig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sine-wave signal is completely characterized by its peak valu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r rms value which is the peak /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frequenc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rad/s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1/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period is seconds)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and pha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respect to an arbitrary reference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nalog signals have magnitudes that can assume any value.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circuits that process analog signals are called analog circuits.  Sampling the magnitude of an analog signal at discrete instants of time and representing each signal sample by a number results in a digital signal.  Digital signals are processed by digital circu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simplest digital signals are obtained when the binary number system is used.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dividual digital signal then assumes one of only two possible values: low and high (e.g. 0V and 5V) corresponding to logic 0 and logic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n analog-to-digital converter (ADC) provides at its output the digits of the binary number representing the analog signal sample applied to its input.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utput digital signal can then be processed using digital circu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 transfer characteristic,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vs.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of a linear amplifier is a straight line with a slope equal to the voltage gai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mplifiers increase the signal power and thus require dc power supplies for their ope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amplifier voltage gain can be expressed as a ratio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n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or in decibels, 20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og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| in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ing on the signal to be amplified (voltage or current) and on the desired form of output signal (voltage or current) there ar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our basic amplifier types: voltage, current, transconductance, and transresistance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A given amplifier may be modeled by any of these configurations, in which case their parameters are related by (1.14) through (1.16) in the tex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ample 1.1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venin and Norton Equivalent Sourc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source / loa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binations to upper-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note</a:t>
            </a:r>
            <a:r>
              <a:rPr b="1" lang="en-US" sz="2800" spc="-1" strike="noStrike">
                <a:solidFill>
                  <a:srgbClr val="808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that output resistance of a source limits its ability to deliver a signal at full 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a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the relationship between the source and output wh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ximum pow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deliver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for example, </a:t>
            </a:r>
            <a:r>
              <a:rPr b="0" i="1" lang="en-US" sz="2800" spc="-1" strike="noStrike">
                <a:solidFill>
                  <a:srgbClr val="80808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80808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 &lt; </a:t>
            </a:r>
            <a:r>
              <a:rPr b="0" i="1" lang="en-US" sz="2800" spc="-1" strike="noStrike">
                <a:solidFill>
                  <a:srgbClr val="80808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80808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???  </a:t>
            </a:r>
            <a:r>
              <a:rPr b="0" i="1" lang="en-US" sz="2800" spc="-1" strike="noStrike">
                <a:solidFill>
                  <a:srgbClr val="80808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80808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 &gt; </a:t>
            </a:r>
            <a:r>
              <a:rPr b="0" i="1" lang="en-US" sz="2800" spc="-1" strike="noStrike">
                <a:solidFill>
                  <a:srgbClr val="80808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80808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???  </a:t>
            </a:r>
            <a:r>
              <a:rPr b="0" i="1" lang="en-US" sz="2800" spc="-1" strike="noStrike">
                <a:solidFill>
                  <a:srgbClr val="80808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808080"/>
                </a:solidFill>
                <a:latin typeface="Calibri"/>
              </a:rPr>
              <a:t>s</a:t>
            </a:r>
            <a:r>
              <a:rPr b="0" i="1" lang="en-US" sz="2800" spc="-1" strike="noStrike">
                <a:solidFill>
                  <a:srgbClr val="808080"/>
                </a:solidFill>
                <a:latin typeface="Calibri"/>
              </a:rPr>
              <a:t> = v</a:t>
            </a:r>
            <a:r>
              <a:rPr b="0" i="1" lang="en-US" sz="2800" spc="-1" strike="noStrike" baseline="-25000">
                <a:solidFill>
                  <a:srgbClr val="80808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(b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deal values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norton and thevenin representa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se01F02"/>
          <p:cNvPicPr/>
          <p:nvPr/>
        </p:nvPicPr>
        <p:blipFill>
          <a:blip r:embed="rId1"/>
          <a:stretch/>
        </p:blipFill>
        <p:spPr>
          <a:xfrm>
            <a:off x="5181480" y="228600"/>
            <a:ext cx="3702240" cy="112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sinusoid is the only signal whose waveform is unchanged through a linear circuit.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usoidal signals are used to measure the frequency response of amplif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transfer functio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 =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/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 of a voltage amplifier may be determined from circuit analysis.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stitut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iv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whose magnitude (|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| is the magnitude response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s the phase respon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mplifiers are classified according to the shape of their frequency respon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6868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ingle-time-constant (STC) networks are those networks that are composed of, or may be reduced to, one reactive component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 and one resistance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The time constant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TC networks can be classified into two categories: low-pass (LP) and high-pass (HP)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P network pass dc and low-frequencies while attenuating high-frequencies.  The opposite is true for H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gain of an LP (HP) STC circuit drops by 3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below the zero-frequency (infinite-frequency) value at a frequency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= 1/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At high-frequencies (low-frequencies) the gain falls of at a rate of 6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octave or 20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deca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Calibri"/>
              </a:rPr>
              <a:t>Refer to Table 1.2. on page 34 and Figs. 1.23 and 1.24.  Further details are provided in Appendix 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requency Spectrum of Signal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frequency spectr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defines the a time-domain signal in terms of the strength of harmonic 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s a Fourier Ser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: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pression of a periodic function as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m of an infinite number of sinusoi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ose frequencies are harmonically re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228600" y="617220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xford University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icroelectronic Circuits by Adel S. Sedra and Kenneth C. Smith (019532303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6400800" y="0"/>
            <a:ext cx="38577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a Fourier Series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400800" y="-152280"/>
            <a:ext cx="4191120" cy="7315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533520" y="3171960"/>
          <a:ext cx="5273640" cy="34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171960"/>
                    <a:ext cx="527364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decomposi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of a periodic function into the (possibly infinite) sum of simpler oscillating fun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06:37Z</dcterms:created>
  <dc:creator>deese</dc:creator>
  <dc:description/>
  <dc:language>en-US</dc:language>
  <cp:lastModifiedBy>Jeffrey N. Denenberg</cp:lastModifiedBy>
  <dcterms:modified xsi:type="dcterms:W3CDTF">2013-05-30T15:22:48Z</dcterms:modified>
  <cp:revision>402</cp:revision>
  <dc:subject/>
  <dc:title>Slide 1</dc:title>
</cp:coreProperties>
</file>